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F884-443B-4808-93A5-CAAC462E1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B093-81E1-41E9-8C81-53574DB88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204-2FD8-4A4B-8C4C-2B505C57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FA1-66B1-49C0-AEB1-933BC79A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CC5-8D78-4827-A489-9C6A1C0F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617-F30D-4A72-96D7-945A733E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ED2-2E56-486A-AA1C-3D2DBD51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1F4-41B0-430D-B968-EB028D80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6A7-68C3-47CE-AB25-3D831A8D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E3D-6C51-48F3-8A6C-60E47945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12B-E761-4E51-ADE8-2AF869F7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089-CDAC-4D67-B7A6-F39442C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3D0-4003-44A4-9EF0-B20C7EF8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F77-0521-420B-875C-4554E5B4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74AC-A823-4B17-BECB-88867AF57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5 Folk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cus on dail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not become part of popula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inseparable from the acoustic gu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so far been of little cultural signific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re often difficult to interp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5 Folk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Focus on dail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not become part of popula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inseparable from the acoustic gu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so far been of little cultural signific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re often difficult to interp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6 Hog production is low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6 Hog production is low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4_06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7 Wine production typically requires all of the following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ll-drained so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pportive 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ximity to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ol su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ol w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7 Wine production typically requires all of the following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ll-drained so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pportive 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ximity to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ool su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ol w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4_13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8 In America, tequila is consumed primarily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8 In America, tequila is consumed primarily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1 An act repeatedly performed by an individual i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ltural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b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ust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noy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4_12r"/>
          <p:cNvPicPr/>
          <p:nvPr/>
        </p:nvPicPr>
        <p:blipFill>
          <a:blip r:embed="rId1"/>
          <a:stretch/>
        </p:blipFill>
        <p:spPr>
          <a:xfrm>
            <a:off x="1219320" y="762120"/>
            <a:ext cx="6781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9 Internet use is least prevalen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entral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9 Internet use is least prevalen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entral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4_15"/>
          <p:cNvPicPr/>
          <p:nvPr/>
        </p:nvPicPr>
        <p:blipFill>
          <a:blip r:embed="rId1"/>
          <a:stretch/>
        </p:blipFill>
        <p:spPr>
          <a:xfrm>
            <a:off x="2209680" y="457200"/>
            <a:ext cx="4800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10 Similar restaurants, gas stations, and stores throughout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llustrate how popular culture can creat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how how folk culture can 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a prime example of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rease cultural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10 Similar restaurants, gas stations, and stores throughout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Illustrate how popular culture can 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uniform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how how folk culture can 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a prime example of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rease cultural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1 An act repeatedly performed by an individual i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ltural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Hab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ust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noy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2 Popular culture is prac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ly where folk culture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y large heterogeneou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y individual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Only in the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t specific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2 Popular culture is prac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ly where folk culture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By large heterogeneou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y individual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Only in the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t specific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3 Folk culture is most likely to sprea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erarchical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tagious dif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imulus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pycat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location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3 Folk culture is most likely to sprea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erarchical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tagious dif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imulus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pycat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Relocation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4 Modern communications methods have _________ of social cus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lowed the disse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d little effect on the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reased the global uniform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ed to the 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4 Modern communications methods have _________ of social cus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lowed the disse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d little effect on the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Increased the global uniform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ed to the 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hartma</cp:lastModifiedBy>
  <dcterms:modified xsi:type="dcterms:W3CDTF">2010-12-10T23:46:53Z</dcterms:modified>
  <cp:revision>82</cp:revision>
  <dc:subject/>
  <dc:title>CRS Chapter 4</dc:title>
</cp:coreProperties>
</file>